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4.png" ContentType="image/png"/>
  <Override PartName="/ppt/media/image6.png" ContentType="image/png"/>
  <Override PartName="/ppt/media/image7.wmf" ContentType="image/x-wmf"/>
  <Override PartName="/ppt/media/image12.jpeg" ContentType="image/jpeg"/>
  <Override PartName="/ppt/media/image13.png" ContentType="image/png"/>
  <Override PartName="/ppt/media/image8.wmf" ContentType="image/x-wmf"/>
  <Override PartName="/ppt/media/image14.png" ContentType="image/png"/>
  <Override PartName="/ppt/media/image9.wmf" ContentType="image/x-wmf"/>
  <Override PartName="/ppt/media/image5.wmf" ContentType="image/x-wmf"/>
  <Override PartName="/ppt/media/image10.png" ContentType="image/png"/>
  <Override PartName="/ppt/media/image11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2720" y="943128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DBC1D0C-56F4-4435-B8CF-C8B6E3DC5BC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52720" y="943128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952AC35-0BCA-48C9-84C0-0E70E55C92D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52720" y="943128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5C8F934-6D59-4C67-82F6-89ABCD09F31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52720" y="943128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70C4E2D-014C-4E5D-9DC7-348C9DDE42D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52720" y="943128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B6B49AB-97B8-40EE-A239-C678B7E34B6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52720" y="943128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96B9E11-4314-4BAE-8261-47F8B98D06A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52720" y="943128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3CDE317-4687-4E56-9607-2D94F18DE7A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52720" y="943128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D319DAF-BDCB-4068-B0A4-3DF35C6D4B0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52720" y="943128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6F88869-621D-43C9-8686-E3D55507986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52720" y="943128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F257B0C-D9DF-4924-9C5C-B62AAA5C83B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52720" y="943128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E672D10-9684-425D-A56D-CC678C5D075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52720" y="943128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BDB4707-06FA-4CF8-8CD7-E44FF3A6BC5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52720" y="943128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7A4C351-14B1-4194-8370-190C92B5CC8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52720" y="943128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D58566D-0216-4B7C-8AE8-36FAF9A7B41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8" name="Rectangle 3"/>
          <p:cNvSpPr/>
          <p:nvPr/>
        </p:nvSpPr>
        <p:spPr>
          <a:xfrm>
            <a:off x="906480" y="4714920"/>
            <a:ext cx="4984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52720" y="943128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3CABCF2-655B-40FD-ABBE-A8EC60BC448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52720" y="943128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0E08BCC-83CB-4DF9-9B04-A3682F7CE7A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52720" y="943128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ED6E305-D638-438C-8685-312272DC2DE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52720" y="943128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4F4233C-3969-408C-ABBC-C4D1414FFF1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52720" y="943128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A377023-8876-40B9-8DC4-9A3062663A8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52720" y="943128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3A05EA7-8C19-41DA-8390-215EBEAB74C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9263-C90C-4E87-B6A8-61DBDF4F8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ED35-E17B-4492-90DF-C394A936C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142E-2D70-4BE3-A694-A2FDA363A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2BA0-A143-4570-9868-A97F1AB50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9DE9-454F-422C-9937-BD415F9B0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9599-E1C4-45A6-B331-A789ED7BB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EC48-7CB1-4107-864D-0681095D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FD68-3390-4318-981A-1DF09323D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7AD1-70A2-4DBE-B4A7-61D6D4293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6DB5-46AC-4205-9CEA-D90A620E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ACEC-D051-4F4A-B6BF-C76488B6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F25B-523B-4B97-B99D-968D2494A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mazione Ordine dei Dottori Agronomi e Dottori Forestali della Provincia di Padova - 11 dicembre 201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44D8C-8CFB-441E-A6BF-258BA6491F1D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C:\Programmi\Microsoft Office\ClipArt\Linee\Città.gif"/>
          <p:cNvPicPr/>
          <p:nvPr/>
        </p:nvPicPr>
        <p:blipFill>
          <a:blip r:embed="rId1"/>
          <a:stretch/>
        </p:blipFill>
        <p:spPr>
          <a:xfrm>
            <a:off x="2209680" y="6400800"/>
            <a:ext cx="4743720" cy="2095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gestione delle alberature stradali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457200" y="3886200"/>
            <a:ext cx="5105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ott. For. Claudia Alzetta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mune di Padova - Ufficio Alberat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" name="Picture 11" descr=""/>
          <p:cNvPicPr/>
          <p:nvPr/>
        </p:nvPicPr>
        <p:blipFill>
          <a:blip r:embed="rId2"/>
          <a:stretch/>
        </p:blipFill>
        <p:spPr>
          <a:xfrm>
            <a:off x="1066680" y="5105520"/>
            <a:ext cx="2286000" cy="952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"/>
          <p:cNvPicPr/>
          <p:nvPr/>
        </p:nvPicPr>
        <p:blipFill>
          <a:blip r:embed="rId3"/>
          <a:stretch/>
        </p:blipFill>
        <p:spPr>
          <a:xfrm>
            <a:off x="7162920" y="4876920"/>
            <a:ext cx="131760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C:\Programmi\Microsoft Office\ClipArt\Linee\Città.gif"/>
          <p:cNvPicPr/>
          <p:nvPr/>
        </p:nvPicPr>
        <p:blipFill>
          <a:blip r:embed="rId1"/>
          <a:stretch/>
        </p:blipFill>
        <p:spPr>
          <a:xfrm>
            <a:off x="2209680" y="6400800"/>
            <a:ext cx="4743720" cy="2095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3"/>
          <p:cNvSpPr/>
          <p:nvPr/>
        </p:nvSpPr>
        <p:spPr>
          <a:xfrm>
            <a:off x="3809880" y="495288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cer saccha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iovane pianta:Rau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iovane albero: Kori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lbero adulto: Leeuwenbe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9" descr=""/>
          <p:cNvPicPr/>
          <p:nvPr/>
        </p:nvPicPr>
        <p:blipFill>
          <a:blip r:embed="rId2"/>
          <a:stretch/>
        </p:blipFill>
        <p:spPr>
          <a:xfrm>
            <a:off x="1828800" y="228600"/>
            <a:ext cx="457200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Programmi\Microsoft Office\ClipArt\Linee\Città.gif"/>
          <p:cNvPicPr/>
          <p:nvPr/>
        </p:nvPicPr>
        <p:blipFill>
          <a:blip r:embed="rId1"/>
          <a:stretch/>
        </p:blipFill>
        <p:spPr>
          <a:xfrm>
            <a:off x="2209680" y="6400800"/>
            <a:ext cx="4743720" cy="20952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3"/>
          <p:cNvSpPr/>
          <p:nvPr/>
        </p:nvSpPr>
        <p:spPr>
          <a:xfrm>
            <a:off x="3809880" y="495288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762120" y="3271680"/>
            <a:ext cx="7619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 alcuni alberi vi sono biforcazioni a carattere temporaneo (dette biforcazioni ricorrenti) sotto  controllo genetico. Vengono riassorbite più o meno rapidamente formando il tron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’ importante tenere conto del loro carattere temporaneo negli interventi di pota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0" descr=""/>
          <p:cNvPicPr/>
          <p:nvPr/>
        </p:nvPicPr>
        <p:blipFill>
          <a:blip r:embed="rId2"/>
          <a:stretch/>
        </p:blipFill>
        <p:spPr>
          <a:xfrm>
            <a:off x="5105520" y="3962520"/>
            <a:ext cx="312408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C:\Programmi\Microsoft Office\ClipArt\Linee\Città.gif"/>
          <p:cNvPicPr/>
          <p:nvPr/>
        </p:nvPicPr>
        <p:blipFill>
          <a:blip r:embed="rId1"/>
          <a:stretch/>
        </p:blipFill>
        <p:spPr>
          <a:xfrm>
            <a:off x="2209680" y="6400800"/>
            <a:ext cx="4743720" cy="2095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3809880" y="495288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838080" y="4059360"/>
            <a:ext cx="7620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forcazioni ricorrenti: ereditarie, inevitabili, si riassorbono nell’ingrossamento del tronco, non essere precipitosi nella potatura di formazion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forcazioni dominanti: definiscono l’ingresso nella fase di ingrossamento del tronco. Se appare quando il tronco è troppo basso, conviene potare per prolungare artificialmente la formazione del tronco (innalzamento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forcazione accidentale: cause varie, la potatura è spesso indispensabi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Picture 10" descr="C:\Documents and Settings\alzettac\Desktop\copie_09_12_2015\Conferenze,Comunicati,PPT\ppt\potature_vicenza_2016\biforcazioni.jpg"/>
          <p:cNvPicPr/>
          <p:nvPr/>
        </p:nvPicPr>
        <p:blipFill>
          <a:blip r:embed="rId2"/>
          <a:stretch/>
        </p:blipFill>
        <p:spPr>
          <a:xfrm>
            <a:off x="1600200" y="533520"/>
            <a:ext cx="445788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C:\Programmi\Microsoft Office\ClipArt\Linee\Città.gif"/>
          <p:cNvPicPr/>
          <p:nvPr/>
        </p:nvPicPr>
        <p:blipFill>
          <a:blip r:embed="rId1"/>
          <a:stretch/>
        </p:blipFill>
        <p:spPr>
          <a:xfrm>
            <a:off x="2209680" y="6400800"/>
            <a:ext cx="4743720" cy="20952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3"/>
          <p:cNvSpPr/>
          <p:nvPr/>
        </p:nvSpPr>
        <p:spPr>
          <a:xfrm>
            <a:off x="3809880" y="495288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Picture 7" descr="C:\Documents and Settings\alzettac\Desktop\copie_09_12_2015\Conferenze,Comunicati,PPT\ppt\potature_vicenza_2016\fasi_albero.gif"/>
          <p:cNvPicPr/>
          <p:nvPr/>
        </p:nvPicPr>
        <p:blipFill>
          <a:blip r:embed="rId2"/>
          <a:stretch/>
        </p:blipFill>
        <p:spPr>
          <a:xfrm>
            <a:off x="228600" y="1295280"/>
            <a:ext cx="876312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C:\Programmi\Microsoft Office\ClipArt\Linee\Città.gif"/>
          <p:cNvPicPr/>
          <p:nvPr/>
        </p:nvPicPr>
        <p:blipFill>
          <a:blip r:embed="rId1"/>
          <a:stretch/>
        </p:blipFill>
        <p:spPr>
          <a:xfrm>
            <a:off x="2209680" y="6400800"/>
            <a:ext cx="4743720" cy="2095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iagnostica le anomalie dello sviluppo ed il processo di resilienza tramite l’analisi dell’architettura degli alberi - indispensabile il binocolo e formazione sul cam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i basa su 4 princip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rincipio delle sequenze di riferi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rincipio della diversità botan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rincipio dei tre tipi di rami epicormi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rincipio delle chiavi di identific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metodo ARCHI (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Christophe Drenou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C:\Programmi\Microsoft Office\ClipArt\Linee\Città.gif"/>
          <p:cNvPicPr/>
          <p:nvPr/>
        </p:nvPicPr>
        <p:blipFill>
          <a:blip r:embed="rId1"/>
          <a:stretch/>
        </p:blipFill>
        <p:spPr>
          <a:xfrm>
            <a:off x="2209680" y="6400800"/>
            <a:ext cx="4743720" cy="2095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rincipio delle sequenze di riferi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ogni specie ha la propria sequenza di eventi morfologici e questa può essere presa a riferimento per descrivere uno sviluppo ottimale. Consente di distinguere i deperimenti, diversi e spesso temporanei, dall’invecchiamento e dalla senescen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rincipio della diversità botan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metodo ARCH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C:\Programmi\Microsoft Office\ClipArt\Linee\Città.gif"/>
          <p:cNvPicPr/>
          <p:nvPr/>
        </p:nvPicPr>
        <p:blipFill>
          <a:blip r:embed="rId1"/>
          <a:stretch/>
        </p:blipFill>
        <p:spPr>
          <a:xfrm>
            <a:off x="2209680" y="6400800"/>
            <a:ext cx="4743720" cy="2095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rincipio dei tre tipi di rami epicormici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riconosce ai tre tipi di rami una diversa funzione, si può quindi riconoscere il destino dell’alber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rincipio delle chiavi di identificazion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organizza gerarchicamente i caratteri morfologici da osservare - attualmente disponibili 6 chiavi, rovere, roverella, farnia, castagno, abete bianco, douglas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metodo ARCH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C:\Programmi\Microsoft Office\ClipArt\Linee\Città.gif"/>
          <p:cNvPicPr/>
          <p:nvPr/>
        </p:nvPicPr>
        <p:blipFill>
          <a:blip r:embed="rId1"/>
          <a:stretch/>
        </p:blipFill>
        <p:spPr>
          <a:xfrm>
            <a:off x="2209680" y="6400800"/>
            <a:ext cx="4743720" cy="2095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533520" y="251460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ramo ORTOTROPO: direzione di crescita verticale - reitera l’architettura dei giovani albe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ramo PLAGIOTROPO: direz. da orizzontale ad obliqua - reitera l’architettura dei ra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ramo AGEOTROPO: nessuna direzione né simmetria - assicura la sopravvivenza dell’asse porta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 tre tipi di rami epicormici secondo ARCH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C:\Programmi\Microsoft Office\ClipArt\Linee\Città.gif"/>
          <p:cNvPicPr/>
          <p:nvPr/>
        </p:nvPicPr>
        <p:blipFill>
          <a:blip r:embed="rId1"/>
          <a:stretch/>
        </p:blipFill>
        <p:spPr>
          <a:xfrm>
            <a:off x="2209680" y="6400800"/>
            <a:ext cx="4743720" cy="2095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457200" y="3886200"/>
            <a:ext cx="5105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9" descr="C:\Documents and Settings\alzettac\Desktop\copie_09_12_2015\Conferenze,Comunicati,PPT\ppt\potature_vicenza_2016\ARCHI.png"/>
          <p:cNvPicPr/>
          <p:nvPr/>
        </p:nvPicPr>
        <p:blipFill>
          <a:blip r:embed="rId2"/>
          <a:stretch/>
        </p:blipFill>
        <p:spPr>
          <a:xfrm>
            <a:off x="870120" y="765000"/>
            <a:ext cx="740376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C:\Programmi\Microsoft Office\ClipArt\Linee\Città.gif"/>
          <p:cNvPicPr/>
          <p:nvPr/>
        </p:nvPicPr>
        <p:blipFill>
          <a:blip r:embed="rId1"/>
          <a:stretch/>
        </p:blipFill>
        <p:spPr>
          <a:xfrm>
            <a:off x="2209680" y="6400800"/>
            <a:ext cx="4743720" cy="2095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3"/>
          <p:cNvSpPr/>
          <p:nvPr/>
        </p:nvSpPr>
        <p:spPr>
          <a:xfrm>
            <a:off x="3809880" y="495288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0948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533520" y="19051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lbero SANO: architettura conforme al suo stadio di svilupp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lbero STRESSATO: architettura che devia dalla sequenza di riferimento - avvenire incert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lbero  RESILIENTE: presenta una dinamica di ritorno alla normalità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lbero CON CHIOMA DISCENDENTE: ricostruisce la chioma ad una livello inferiore rispetto alla cima origina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lbero DEPERENTE: bloccato in una situazione di non ritorno alla sequenza di riferiment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lbero MORTO: cambio morto a 1,3 m al di sopra del collett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 diversi stadi di un albero secondo il metodo AR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Programmi\Microsoft Office\ClipArt\Linee\Città.gif"/>
          <p:cNvPicPr/>
          <p:nvPr/>
        </p:nvPicPr>
        <p:blipFill>
          <a:blip r:embed="rId1"/>
          <a:stretch/>
        </p:blipFill>
        <p:spPr>
          <a:xfrm>
            <a:off x="2209680" y="6400800"/>
            <a:ext cx="4743720" cy="2095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457200" y="3886200"/>
            <a:ext cx="5105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" name="Picture 7" descr=""/>
          <p:cNvPicPr/>
          <p:nvPr/>
        </p:nvPicPr>
        <p:blipFill>
          <a:blip r:embed="rId2"/>
          <a:stretch/>
        </p:blipFill>
        <p:spPr>
          <a:xfrm>
            <a:off x="2362320" y="3048120"/>
            <a:ext cx="4038480" cy="28778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9"/>
          <p:cNvSpPr/>
          <p:nvPr/>
        </p:nvSpPr>
        <p:spPr>
          <a:xfrm>
            <a:off x="685800" y="533520"/>
            <a:ext cx="77724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gestione delle alberature stradali</a:t>
            </a:r>
            <a:br>
              <a:rPr sz="3600"/>
            </a:br>
            <a:br>
              <a:rPr sz="3600"/>
            </a:b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 modelli architettural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Programmi\Microsoft Office\ClipArt\Linee\Città.gif"/>
          <p:cNvPicPr/>
          <p:nvPr/>
        </p:nvPicPr>
        <p:blipFill>
          <a:blip r:embed="rId1"/>
          <a:stretch/>
        </p:blipFill>
        <p:spPr>
          <a:xfrm>
            <a:off x="2209680" y="6400800"/>
            <a:ext cx="4743720" cy="2095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3"/>
          <p:cNvSpPr/>
          <p:nvPr/>
        </p:nvSpPr>
        <p:spPr>
          <a:xfrm>
            <a:off x="3809880" y="495288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2" name="Picture 10" descr=""/>
          <p:cNvPicPr/>
          <p:nvPr/>
        </p:nvPicPr>
        <p:blipFill>
          <a:blip r:embed="rId2"/>
          <a:stretch/>
        </p:blipFill>
        <p:spPr>
          <a:xfrm>
            <a:off x="2666880" y="2057400"/>
            <a:ext cx="381024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Programmi\Microsoft Office\ClipArt\Linee\Città.gif"/>
          <p:cNvPicPr/>
          <p:nvPr/>
        </p:nvPicPr>
        <p:blipFill>
          <a:blip r:embed="rId1"/>
          <a:stretch/>
        </p:blipFill>
        <p:spPr>
          <a:xfrm>
            <a:off x="2209680" y="6400800"/>
            <a:ext cx="4743720" cy="20952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3"/>
          <p:cNvSpPr/>
          <p:nvPr/>
        </p:nvSpPr>
        <p:spPr>
          <a:xfrm>
            <a:off x="3809880" y="495288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5" name="Picture 8" descr="C:\Documents and Settings\alzettac\Desktop\copie_09_12_2015\Conferenze,Comunicati,PPT\ppt\potature_vicenza_2016\ARCHItettura-degli-alberi-1.png"/>
          <p:cNvPicPr/>
          <p:nvPr/>
        </p:nvPicPr>
        <p:blipFill>
          <a:blip r:embed="rId2"/>
          <a:stretch/>
        </p:blipFill>
        <p:spPr>
          <a:xfrm>
            <a:off x="1905120" y="1371600"/>
            <a:ext cx="51451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Programmi\Microsoft Office\ClipArt\Linee\Città.gif"/>
          <p:cNvPicPr/>
          <p:nvPr/>
        </p:nvPicPr>
        <p:blipFill>
          <a:blip r:embed="rId1"/>
          <a:stretch/>
        </p:blipFill>
        <p:spPr>
          <a:xfrm>
            <a:off x="2209680" y="6400800"/>
            <a:ext cx="4743720" cy="2095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"/>
          <p:cNvSpPr/>
          <p:nvPr/>
        </p:nvSpPr>
        <p:spPr>
          <a:xfrm>
            <a:off x="3809880" y="495288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380880" y="3179880"/>
            <a:ext cx="829800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na parte dello sviluppo dell’albero è codificata genetic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gni modello porta il nome di un botan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elle regioni temperate le specie arboree si sviluppano seguendo diversi modelli assemblati (7 modelli base - Jeanne Mill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Programmi\Microsoft Office\ClipArt\Linee\Città.gif"/>
          <p:cNvPicPr/>
          <p:nvPr/>
        </p:nvPicPr>
        <p:blipFill>
          <a:blip r:embed="rId1"/>
          <a:stretch/>
        </p:blipFill>
        <p:spPr>
          <a:xfrm>
            <a:off x="2209680" y="6400800"/>
            <a:ext cx="4743720" cy="2095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"/>
          <p:cNvSpPr/>
          <p:nvPr/>
        </p:nvSpPr>
        <p:spPr>
          <a:xfrm>
            <a:off x="3809880" y="495288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380880" y="3073320"/>
            <a:ext cx="8298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5" name="Picture 9" descr=""/>
          <p:cNvPicPr/>
          <p:nvPr/>
        </p:nvPicPr>
        <p:blipFill>
          <a:blip r:embed="rId2"/>
          <a:stretch/>
        </p:blipFill>
        <p:spPr>
          <a:xfrm>
            <a:off x="1828800" y="1066680"/>
            <a:ext cx="556272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:\Programmi\Microsoft Office\ClipArt\Linee\Città.gif"/>
          <p:cNvPicPr/>
          <p:nvPr/>
        </p:nvPicPr>
        <p:blipFill>
          <a:blip r:embed="rId1"/>
          <a:stretch/>
        </p:blipFill>
        <p:spPr>
          <a:xfrm>
            <a:off x="2209680" y="6400800"/>
            <a:ext cx="4743720" cy="2095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>
            <a:off x="3809880" y="495288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3" descr=""/>
          <p:cNvPicPr/>
          <p:nvPr/>
        </p:nvPicPr>
        <p:blipFill>
          <a:blip r:embed="rId2"/>
          <a:stretch/>
        </p:blipFill>
        <p:spPr>
          <a:xfrm>
            <a:off x="990720" y="838080"/>
            <a:ext cx="3162240" cy="4248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4" descr=""/>
          <p:cNvPicPr/>
          <p:nvPr/>
        </p:nvPicPr>
        <p:blipFill>
          <a:blip r:embed="rId3"/>
          <a:stretch/>
        </p:blipFill>
        <p:spPr>
          <a:xfrm>
            <a:off x="5867280" y="914400"/>
            <a:ext cx="2586240" cy="40863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54860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modello di Leeuwenberg  - Rhus tiphyna                                 Modello di Massart - Abies balsame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Programmi\Microsoft Office\ClipArt\Linee\Città.gif"/>
          <p:cNvPicPr/>
          <p:nvPr/>
        </p:nvPicPr>
        <p:blipFill>
          <a:blip r:embed="rId1"/>
          <a:stretch/>
        </p:blipFill>
        <p:spPr>
          <a:xfrm>
            <a:off x="2209680" y="6400800"/>
            <a:ext cx="4743720" cy="20952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3"/>
          <p:cNvSpPr/>
          <p:nvPr/>
        </p:nvSpPr>
        <p:spPr>
          <a:xfrm>
            <a:off x="3809880" y="495288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380880" y="2617560"/>
            <a:ext cx="8298000" cy="18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Osservando  la struttura dell’albero si capisce quindi cosa sia determinato geneticamente e cosa sia dovuto alle interazioni con l’amb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Programmi\Microsoft Office\ClipArt\Linee\Città.gif"/>
          <p:cNvPicPr/>
          <p:nvPr/>
        </p:nvPicPr>
        <p:blipFill>
          <a:blip r:embed="rId1"/>
          <a:stretch/>
        </p:blipFill>
        <p:spPr>
          <a:xfrm>
            <a:off x="2209680" y="6400800"/>
            <a:ext cx="4743720" cy="2095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3"/>
          <p:cNvSpPr/>
          <p:nvPr/>
        </p:nvSpPr>
        <p:spPr>
          <a:xfrm>
            <a:off x="3809880" y="495288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"/>
          <p:cNvPicPr/>
          <p:nvPr/>
        </p:nvPicPr>
        <p:blipFill>
          <a:blip r:embed="rId2"/>
          <a:stretch/>
        </p:blipFill>
        <p:spPr>
          <a:xfrm>
            <a:off x="1219320" y="685800"/>
            <a:ext cx="6400800" cy="38876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al raggruppamento dei primi cinque modelli architetturali si può dedurre la sequenza di sviluppo fi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x= morte dei meristemi apical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1:03:04Z</dcterms:created>
  <dc:creator>claudia alzetta</dc:creator>
  <dc:description/>
  <dc:language>en-US</dc:language>
  <cp:lastModifiedBy>Meggiolaro Massimo</cp:lastModifiedBy>
  <cp:lastPrinted>2016-09-29T13:27:40Z</cp:lastPrinted>
  <dcterms:modified xsi:type="dcterms:W3CDTF">2016-10-06T14:48:42Z</dcterms:modified>
  <cp:revision>87</cp:revision>
  <dc:subject/>
  <dc:title>Presentazione di PowerPoint</dc:title>
</cp:coreProperties>
</file>